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99EC-BA24-4045-81BD-31FCC713B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4047-41CA-4F92-B139-DE5C1697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8EFBF-A907-4EE6-847E-F6B900AE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366C36-CE85-40C0-B58C-A67AB492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1A2D2-5382-4047-B26B-8B410B97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9B967-F83A-42F0-B6AC-849D1CAF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977EE-76DF-4638-A019-FC928C00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386C6-E208-4F2F-8886-CAE5E248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CBE70-3BDE-4BB3-A321-7DAC53C7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03F38-1752-4DB7-AED7-E088CFCDF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CAF24-A5AB-4DB5-A97B-A9D35DBF8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93B8A6-C6C0-4E73-8649-AE4FF1452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1A51-52DB-491D-AB06-83FF2F15A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533C54-23E0-4F1E-A393-7269D237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94066A-AC58-431D-AED5-0ED741D3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4C06A7-5CEE-476F-A7E4-4397D90A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61283-7D6F-4E3A-A69E-97F94331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90A9AC-70FE-401E-9C27-9C2965F7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5A7C77-103A-4C8D-9FDE-89D94627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AA3706-9EC3-4F75-8B10-CC374EFD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8516C2-8854-4629-8D7B-8394D66C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360BEB-21FC-4992-B9DE-7103FD0C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49B9FC-4D9E-4773-9D82-1FC903720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4A1B-E404-468C-9EAA-A4C2D0778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E69D8F-AECC-447A-A267-45E3B1626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C06F-FAE2-4020-8B2F-9F8D0745F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8E4A-8B2E-4621-8C69-7DD1B24C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0FE2-77DB-4822-94A4-157C2F3D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27CC-F4C8-44F3-A9E2-EC00E72E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8818-F9A9-48F2-8279-24F29CC8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62B8-D42A-42DA-A83A-1E30C386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B61D-246C-4964-8C35-BD1C9F5C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FC8F-E73E-4B37-821C-1CB771A3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EBF9-C434-4E3E-BB54-ED27156E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6116-DB54-4CFB-A82B-1CE1CBF2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FE29-6FB1-4F35-A26F-B4C70213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DBAB-990E-4665-AC91-8A9DB66A4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6E7F-AF37-452C-A3E7-8C8A49953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88A31-8910-4D4E-BEB6-B1F4AD389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CAACB-3001-4623-BE21-C07B4EB7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61671-E41F-4958-B99B-31696FD8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24086-5EC3-4CDD-B08D-3228C826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243D7-9A19-4AF0-A029-C9836F3B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1C54-8712-45CC-97BF-DAFBE827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A5EE1-84CA-411B-8EA5-D49C613A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6B4D4-091E-464C-836D-CE8B7E3E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27A92-2A9F-4805-8A7C-DF15DA66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1C2DA-9942-4AAB-AE3B-5D2ABB40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01A4D-53DF-4BEA-83BD-D7E0C183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C86E1-28E8-4B2B-8585-59C43BE34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D8395-61F2-404F-AAC5-01269EBF9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A2371-7016-427D-82AA-6D51190A3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A8124-E1F8-442F-B0C0-E51CBFBE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BAEDD-A502-47F4-A942-FE20310E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27AE-65C3-4464-852F-5C092A8B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38224-4C1B-4B4D-8E30-083B2FFF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A7D65-0B50-4A8F-9C73-7ED378FC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D5EED-622F-4256-947A-FE47C871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3C9A8-86C4-47F5-A96B-7F17472F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FC008-CD23-4115-AEF6-5D602FC0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01843-8386-45AD-A406-DA863B2A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689F2-3D36-4EA7-831A-BB33089F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38FA1-82D3-4600-A367-5B2A01D55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91BA3-55E5-448E-B904-5E4CD2B08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42246-C8FC-4675-8501-13410AF2E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6B26-24D6-4F1F-8FEC-DC7AE56D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4BB9D-30F8-4655-B27F-2E9C17F3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7376F-E464-4287-84ED-4EA70785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55EC6-4CD4-463E-914B-3C46955A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29EFB-3303-4E99-A220-3651744E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4CE32-3AF8-4909-901D-2EE8513E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B8C0D-C962-4879-955B-06B999D4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86D81-CC29-4D3E-8A0D-AC616615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0CC53-98B6-4EF6-85C1-9CD6BD51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8BD6B-CCC1-4174-A141-3D63B653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828F3-20C3-4B3D-859E-1B10328E7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877E-BB6E-4327-B5A1-DB063698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CC22F-976B-44FE-8EB5-319A57459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88C00-EF64-4E8C-9AC1-567F02EC3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7BBD8-E641-4520-9E12-0168C30C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C918D-210D-45AA-9D9E-5E37AA81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BFB09-4700-4DB6-B538-929EF08B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8080E-7024-48D7-80ED-8EDF592D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1348B-AC9F-4814-9BFF-01657725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16CB0-762D-43DF-B32F-D5CBBE8E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689B8-0D89-46EE-87BF-E911F4F2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5FE6E-737A-4994-B87C-FACF6AD6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C639-640E-4254-AD9C-CB46ED8B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3682F-5971-467C-AF23-5BC994FC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DD4E6-C51D-4A6B-97A5-64B9C0EA6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26A28-3434-4652-A6C4-AEADF9506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D5DF2-9502-4C2E-A346-1AAAEB760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B9EB5-EF41-4728-845E-25289E08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DD794-94B1-4AB0-A7B0-40FABAF7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2FE2D-66DB-4AE7-AF4A-35359520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CE24F-47BC-46CE-9447-C69BEBBB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1E2B5-6E75-4B7F-AF42-14FEC7B4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44381-409F-4C7A-8050-0D35F46E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3183-FA84-4245-A110-0BCE3896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18E80-ED0A-49F4-B2BF-D745E546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29982-77B9-400A-8A5B-4805ED4F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48384-B10A-45B6-8E0E-BF71C7B5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ED361-B1DB-4BF7-BCCA-81C0EA940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1D171-14FA-4E74-AF1B-FA79BF1DC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44E86-5B7F-439D-B717-373350484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D6A9A-F66C-404E-B013-EC424011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294A9-C7E9-43CE-93E0-28797967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436F3-0434-4FE0-826A-0B282574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426C3-F867-4546-8559-408C1D3D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1FD7-350A-4CFF-87E9-0E588258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92684-96D7-4651-93A2-3B0F3133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70022-B182-45EB-92AA-B4920DE8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F9C99-D695-4E09-915E-D0D7B040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ACE43-9788-4D43-B1A1-39E0DE85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5E594-DB8B-4CE9-8B84-A85E05A4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9595A-EFDA-4746-ADB7-B3B62E191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4932A-6F8A-4EDE-9C20-E71C1D48D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B27E6-3727-40C4-AE5F-994C1E0DD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AD357-BD85-4DFD-85EF-05E4D769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FAD37C-749C-4A0C-A558-51BEEF26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EB1A-3648-4D26-B35D-A93FF92EA1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34CE-AACD-4A33-A777-64B0CE85772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56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60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66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70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75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56BD-870B-4B84-9844-A55FF166F9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91CC-7098-4FDC-B5C2-537221A562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CD58-1470-4EE5-AC9A-E2228BB84D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80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149F-0961-4417-B8A3-68806B15DA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227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26FD-6954-4D22-A845-CF897AC755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74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3B9F-DF05-4EDF-B6D6-8A46AF2847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319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ftr" idx="2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3EF0-F8EF-4E59-B97C-2D4F159614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A5FA-609A-46C0-823C-BD5DD00D3AB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72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6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9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98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99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02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3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04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05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3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0" y="123840"/>
            <a:ext cx="9144000" cy="667080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ORDER OF OPERATION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ESSON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EXAMPLE 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e 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x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u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2286000" y="3048120"/>
          <a:ext cx="6705720" cy="2387520"/>
        </p:xfrm>
        <a:graphic>
          <a:graphicData uri="http://schemas.openxmlformats.org/drawingml/2006/table">
            <a:tbl>
              <a:tblPr/>
              <a:tblGrid>
                <a:gridCol w="1905120"/>
                <a:gridCol w="4800600"/>
              </a:tblGrid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x 2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py Question D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25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x 2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mplify Exponent ( Rule 2 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 25 x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mplify Exponent ( Rule 2 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 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ultiplication ( Rule 3 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E 289 – (3 X 5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76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LUATE 289 – (3 X 5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914400" y="2895480"/>
          <a:ext cx="7772400" cy="3234960"/>
        </p:xfrm>
        <a:graphic>
          <a:graphicData uri="http://schemas.openxmlformats.org/drawingml/2006/table">
            <a:tbl>
              <a:tblPr/>
              <a:tblGrid>
                <a:gridCol w="2666880"/>
                <a:gridCol w="5105520"/>
              </a:tblGrid>
              <a:tr h="80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9 – (3 x 5)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 Question D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76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LUATE 289 – (3 X 5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914400" y="2895480"/>
          <a:ext cx="7772400" cy="3234960"/>
        </p:xfrm>
        <a:graphic>
          <a:graphicData uri="http://schemas.openxmlformats.org/drawingml/2006/table">
            <a:tbl>
              <a:tblPr/>
              <a:tblGrid>
                <a:gridCol w="2666880"/>
                <a:gridCol w="5105520"/>
              </a:tblGrid>
              <a:tr h="80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9 – (3 x 5)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 Question D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289 – (15)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ify Parentheses ( Rule 1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76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LUATE 289 – (3 X 5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914400" y="2895480"/>
          <a:ext cx="7772400" cy="3234960"/>
        </p:xfrm>
        <a:graphic>
          <a:graphicData uri="http://schemas.openxmlformats.org/drawingml/2006/table">
            <a:tbl>
              <a:tblPr/>
              <a:tblGrid>
                <a:gridCol w="2666880"/>
                <a:gridCol w="5105520"/>
              </a:tblGrid>
              <a:tr h="80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9 – (3 x 5)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 Question D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289 – (15)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ify Parentheses ( Rule 1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289 - 2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ify Exponents ( Rule 2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76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LUATE 289 – (3 X 5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914400" y="2895480"/>
          <a:ext cx="7772400" cy="3234960"/>
        </p:xfrm>
        <a:graphic>
          <a:graphicData uri="http://schemas.openxmlformats.org/drawingml/2006/table">
            <a:tbl>
              <a:tblPr/>
              <a:tblGrid>
                <a:gridCol w="2666880"/>
                <a:gridCol w="5105520"/>
              </a:tblGrid>
              <a:tr h="80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9 – (3 x 5)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 Question D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289 – (15)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ify Parentheses ( Rule 1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289 - 2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ify Exponents ( Rule 2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6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raction ( Rule 4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E 8 + (2 x 5) x 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÷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639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LUATE 8 + (2 x 5) x 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÷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838080" y="2743200"/>
          <a:ext cx="7696440" cy="3886200"/>
        </p:xfrm>
        <a:graphic>
          <a:graphicData uri="http://schemas.openxmlformats.org/drawingml/2006/table">
            <a:tbl>
              <a:tblPr/>
              <a:tblGrid>
                <a:gridCol w="3353040"/>
                <a:gridCol w="43434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+ (2 x 5) x 3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÷ 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 Down Ques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639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LUATE 8 + (2 x 5) x 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÷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838080" y="2743200"/>
          <a:ext cx="7696440" cy="3714840"/>
        </p:xfrm>
        <a:graphic>
          <a:graphicData uri="http://schemas.openxmlformats.org/drawingml/2006/table">
            <a:tbl>
              <a:tblPr/>
              <a:tblGrid>
                <a:gridCol w="3200400"/>
                <a:gridCol w="4496040"/>
              </a:tblGrid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+ (2 x 5) x 3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÷ 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 Down Ques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8 + </a:t>
                      </a:r>
                      <a:r>
                        <a:rPr b="1" lang="en-US" sz="2800" spc="-1" strike="noStrike">
                          <a:solidFill>
                            <a:srgbClr val="6666cc"/>
                          </a:solidFill>
                          <a:latin typeface="Arial"/>
                        </a:rPr>
                        <a:t>(10)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x 3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÷ 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ify Parentheses(Rule 1 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639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LUATE 8 + (2 x 5) x 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÷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838080" y="2743200"/>
          <a:ext cx="7696440" cy="3714840"/>
        </p:xfrm>
        <a:graphic>
          <a:graphicData uri="http://schemas.openxmlformats.org/drawingml/2006/table">
            <a:tbl>
              <a:tblPr/>
              <a:tblGrid>
                <a:gridCol w="3200400"/>
                <a:gridCol w="4496040"/>
              </a:tblGrid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+ (2 x 5) x 3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÷ 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 Down Ques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8 + (10) x 3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÷ 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ify Parentheses(Rule 1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8 + (10) x </a:t>
                      </a:r>
                      <a:r>
                        <a:rPr b="1" lang="en-US" sz="2800" spc="-1" strike="noStrike">
                          <a:solidFill>
                            <a:srgbClr val="6666cc"/>
                          </a:solidFill>
                          <a:latin typeface="Arial"/>
                        </a:rPr>
                        <a:t>8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÷ 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ify Exponents ( Rule 2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ules for BEDMA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le 1: 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Simplify all operations inside parenthe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le 2: 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Simplify all exponents, working from left to right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le 3: 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Perform all multiplications and divisions, working from left to rig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le 4: 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Perform all additions and subtractions, working from left to rig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639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LUATE 8 + (2 x 5) x 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÷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838080" y="2743200"/>
          <a:ext cx="7696440" cy="4111560"/>
        </p:xfrm>
        <a:graphic>
          <a:graphicData uri="http://schemas.openxmlformats.org/drawingml/2006/table">
            <a:tbl>
              <a:tblPr/>
              <a:tblGrid>
                <a:gridCol w="3200400"/>
                <a:gridCol w="4496040"/>
              </a:tblGrid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+ (2 x 5) x 3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÷ 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 Down Ques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8 + (10) x 3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÷ 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ify Parentheses(Rule 1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8 + (10) x 81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÷ 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ify Exponents ( Rule 2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8 + </a:t>
                      </a:r>
                      <a:r>
                        <a:rPr b="1" lang="en-US" sz="2800" spc="-1" strike="noStrike">
                          <a:solidFill>
                            <a:srgbClr val="6666cc"/>
                          </a:solidFill>
                          <a:latin typeface="Arial"/>
                        </a:rPr>
                        <a:t>81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÷ 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all Multiplications and Divisions, working from left to right ( Rule 3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639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LUATE 8 + (2 x 5) x 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÷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838080" y="2743200"/>
          <a:ext cx="7696440" cy="3714840"/>
        </p:xfrm>
        <a:graphic>
          <a:graphicData uri="http://schemas.openxmlformats.org/drawingml/2006/table">
            <a:tbl>
              <a:tblPr/>
              <a:tblGrid>
                <a:gridCol w="3200400"/>
                <a:gridCol w="4496040"/>
              </a:tblGrid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+ (2 x 5) x 3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÷ 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 Down Ques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8 + (10) x 3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÷ 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ify Parentheses(Rule 1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8 + (10) x 81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÷ 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ify Exponents ( Rule 2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8 + 810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÷ 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all Multiplications and Divisions, working from left to right ( Rule 3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8 + 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639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LUATE 8 + (2 x 5) x 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÷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838080" y="2743200"/>
          <a:ext cx="7696440" cy="3714840"/>
        </p:xfrm>
        <a:graphic>
          <a:graphicData uri="http://schemas.openxmlformats.org/drawingml/2006/table">
            <a:tbl>
              <a:tblPr/>
              <a:tblGrid>
                <a:gridCol w="3200400"/>
                <a:gridCol w="4496040"/>
              </a:tblGrid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+ (2 x 5) x 3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÷ 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 Down Ques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8 + (10) x 3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÷ 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ify Parentheses(Rule 1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8 + (10) x 81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÷ 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ify Exponents ( Rule 2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8 + 810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÷ 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all Multiplications and Divisions, working from left to right ( Rule 3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8 + 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 ( Rule 4 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TRY THE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)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) 27 – 256 ÷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) 9 x (5 + 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14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) 7 + 3 x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÷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) 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 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990720" y="2590920"/>
          <a:ext cx="7391160" cy="2392200"/>
        </p:xfrm>
        <a:graphic>
          <a:graphicData uri="http://schemas.openxmlformats.org/drawingml/2006/table">
            <a:tbl>
              <a:tblPr/>
              <a:tblGrid>
                <a:gridCol w="2514600"/>
                <a:gridCol w="4876560"/>
              </a:tblGrid>
              <a:tr h="72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2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 4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py Question D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 9 x 6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mplify Exponents (Rule 2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 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57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ultiplication ( Rule 3 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) 27 – 256 ÷ 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609480" y="2590920"/>
          <a:ext cx="8077320" cy="2895480"/>
        </p:xfrm>
        <a:graphic>
          <a:graphicData uri="http://schemas.openxmlformats.org/drawingml/2006/table">
            <a:tbl>
              <a:tblPr/>
              <a:tblGrid>
                <a:gridCol w="2819520"/>
                <a:gridCol w="525780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 – 256 ÷ 4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py Question D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 27 – 256÷6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mplify Exponents (Rule 2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 27 –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vision ( Rule 3 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= 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btraction ( Rule 4 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) 9 x (5 + 3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– 14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304920" y="2590920"/>
          <a:ext cx="8381880" cy="3619440"/>
        </p:xfrm>
        <a:graphic>
          <a:graphicData uri="http://schemas.openxmlformats.org/drawingml/2006/table">
            <a:tbl>
              <a:tblPr/>
              <a:tblGrid>
                <a:gridCol w="3200400"/>
                <a:gridCol w="518148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 x (5 + 3)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– 1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py Question D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 9 x (8)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- 1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mplify Parentheses ( Rule 1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 9 x 64 - 1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mplify Exponents ( Rule 2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 576 - 1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ultiplication ( Rule 3 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         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=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btraction ( Rule 4 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) 7 + 3 x 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÷ 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152280" y="2590920"/>
          <a:ext cx="8534520" cy="3619440"/>
        </p:xfrm>
        <a:graphic>
          <a:graphicData uri="http://schemas.openxmlformats.org/drawingml/2006/table">
            <a:tbl>
              <a:tblPr/>
              <a:tblGrid>
                <a:gridCol w="3259080"/>
                <a:gridCol w="527544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 + 3 x 2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÷ 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py Question D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 7 + 3 x 16 ÷ 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mplify Exponents ( Rule 2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 7 + 48 ÷ 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form all Multiplications and Divisions, working from left to right ( Rule 3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 7 + 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= 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ddition ( Rule 4 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BEDMA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B – Brac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 – Expon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 – Division from left to r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M – Multiply from left to r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 – Add from left to r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 – Subtract from left to r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XAMPLE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e this arithmetic expres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 + 36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÷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LU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609480" y="4191120"/>
          <a:ext cx="8305920" cy="2238120"/>
        </p:xfrm>
        <a:graphic>
          <a:graphicData uri="http://schemas.openxmlformats.org/drawingml/2006/table">
            <a:tbl>
              <a:tblPr/>
              <a:tblGrid>
                <a:gridCol w="2210040"/>
                <a:gridCol w="2523960"/>
                <a:gridCol w="3571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+ 36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÷ 3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18 + 36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÷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mplify all exponents ( Rule 2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XAMPLE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0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e this arithmetic expres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 + 36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÷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LU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380880" y="4191120"/>
          <a:ext cx="8534520" cy="2238120"/>
        </p:xfrm>
        <a:graphic>
          <a:graphicData uri="http://schemas.openxmlformats.org/drawingml/2006/table">
            <a:tbl>
              <a:tblPr/>
              <a:tblGrid>
                <a:gridCol w="2210040"/>
                <a:gridCol w="2654280"/>
                <a:gridCol w="3670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+ 36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÷ 3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18 + 36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÷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mplify all exponents ( Rule 2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+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6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÷ 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18 +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vision ( Rule 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XAMPLE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0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e this arithmetic expres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 + 36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÷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LU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380880" y="4191120"/>
          <a:ext cx="8534520" cy="2238120"/>
        </p:xfrm>
        <a:graphic>
          <a:graphicData uri="http://schemas.openxmlformats.org/drawingml/2006/table">
            <a:tbl>
              <a:tblPr/>
              <a:tblGrid>
                <a:gridCol w="2210040"/>
                <a:gridCol w="2654280"/>
                <a:gridCol w="3670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+ 36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÷ 3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18 + 36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÷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mplify all exponents ( Rule 2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+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6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÷ 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18 +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vision ( Rule 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+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ition ( Rule 4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EXAMPLE 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e 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x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u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2286000" y="3048120"/>
          <a:ext cx="6705720" cy="2387520"/>
        </p:xfrm>
        <a:graphic>
          <a:graphicData uri="http://schemas.openxmlformats.org/drawingml/2006/table">
            <a:tbl>
              <a:tblPr/>
              <a:tblGrid>
                <a:gridCol w="1905120"/>
                <a:gridCol w="4800600"/>
              </a:tblGrid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x 2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py Question D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EXAMPLE 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e 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x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u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2286000" y="3048120"/>
          <a:ext cx="6705720" cy="2387520"/>
        </p:xfrm>
        <a:graphic>
          <a:graphicData uri="http://schemas.openxmlformats.org/drawingml/2006/table">
            <a:tbl>
              <a:tblPr/>
              <a:tblGrid>
                <a:gridCol w="1905120"/>
                <a:gridCol w="4800600"/>
              </a:tblGrid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5</a:t>
                      </a:r>
                      <a:r>
                        <a:rPr b="0" lang="en-US" sz="2800" spc="-1" strike="noStrike" baseline="30000">
                          <a:solidFill>
                            <a:srgbClr val="ff33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x 2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py Question D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 25 x 2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mplify Exponent ( Rule 2 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EXAMPLE 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e 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x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u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2286000" y="3048120"/>
          <a:ext cx="6705720" cy="2387520"/>
        </p:xfrm>
        <a:graphic>
          <a:graphicData uri="http://schemas.openxmlformats.org/drawingml/2006/table">
            <a:tbl>
              <a:tblPr/>
              <a:tblGrid>
                <a:gridCol w="1905120"/>
                <a:gridCol w="4800600"/>
              </a:tblGrid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x 2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py Question D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25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x 2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mplify Exponent ( Rule 2 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 25 x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mplify Exponent ( Rule 2 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16:52:51Z</dcterms:created>
  <dc:creator>nbdoe</dc:creator>
  <dc:description/>
  <dc:language>en-US</dc:language>
  <cp:lastModifiedBy>user User</cp:lastModifiedBy>
  <dcterms:modified xsi:type="dcterms:W3CDTF">2007-03-26T18:50:54Z</dcterms:modified>
  <cp:revision>5</cp:revision>
  <dc:subject/>
  <dc:title>ORDER OF OPERATIONS</dc:title>
</cp:coreProperties>
</file>